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102-EFEF-4C24-A382-20DC8B93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3F6-20FE-48F8-B27C-600664B6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7C1-1EE9-4296-B38B-C2A83E49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C03-FBF9-4B53-91C4-022E4C2B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215-69CD-4BE3-9450-7717FE61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3F2-F93E-4A82-8AF7-7137DAB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9C9B-330D-49EF-87ED-BF12329C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D04-523E-4FAA-AB1D-6BBC3F2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C904-40E2-4E64-A6E6-C86DE08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91DB-4471-41B6-91AD-090F78F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D34A-AABE-4620-B3A1-3312FEF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CCB-6025-41F2-81BF-4DA4B408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F304-00EE-4D58-9E42-C379DC02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FE8A-077C-42ED-BE76-3D0933B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8031-4F03-4497-8BFA-EE68B68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DB8C-8B5B-4EB8-A813-89D6D1A6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FC08-E135-4EB1-AC13-71027FFA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319-F80F-48E2-A1E3-9BDBF9A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26E-95C5-4CF0-BEE5-DC9C316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2D6-3EF6-4475-A32D-E6D7321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B7A-DCB0-419A-AB4C-A897280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160-5A94-41F5-A0C6-327FC90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6C9-ABB3-495F-AEE5-BF117CF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993-FBAA-47F5-B527-BAA38B8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115-5702-4A05-8C0C-77DF89BF8773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8CA-F1F0-4833-900F-C5FACD002C57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United Kingd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4624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01" name="Grafik 3" descr="stadtplan_greatbritain.gif"/>
          <p:cNvPicPr/>
          <p:nvPr/>
        </p:nvPicPr>
        <p:blipFill>
          <a:blip r:embed="rId1"/>
          <a:stretch/>
        </p:blipFill>
        <p:spPr>
          <a:xfrm>
            <a:off x="2000160" y="171468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715080" y="4429080"/>
            <a:ext cx="506520" cy="352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786280" y="2071800"/>
            <a:ext cx="53352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3786120" y="3214800"/>
            <a:ext cx="501840" cy="34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5"/>
          <a:stretch/>
        </p:blipFill>
        <p:spPr>
          <a:xfrm>
            <a:off x="4286160" y="5143680"/>
            <a:ext cx="530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2276640"/>
            <a:ext cx="74167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fast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ud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his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u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58227901_5837aae792"/>
          <p:cNvPicPr/>
          <p:nvPr/>
        </p:nvPicPr>
        <p:blipFill>
          <a:blip r:embed="rId1"/>
          <a:stretch/>
        </p:blipFill>
        <p:spPr>
          <a:xfrm>
            <a:off x="5219640" y="1989000"/>
            <a:ext cx="3168720" cy="2109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9" name="Picture 5" descr="180px-Christmas_pudding"/>
          <p:cNvPicPr/>
          <p:nvPr/>
        </p:nvPicPr>
        <p:blipFill>
          <a:blip r:embed="rId2"/>
          <a:stretch/>
        </p:blipFill>
        <p:spPr>
          <a:xfrm>
            <a:off x="5219640" y="4292640"/>
            <a:ext cx="3168720" cy="1981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95280" y="2276640"/>
            <a:ext cx="74167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rchest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ock ’n’ R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ock: The Beat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lassical mu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studio_orchester"/>
          <p:cNvPicPr/>
          <p:nvPr/>
        </p:nvPicPr>
        <p:blipFill>
          <a:blip r:embed="rId1"/>
          <a:stretch/>
        </p:blipFill>
        <p:spPr>
          <a:xfrm>
            <a:off x="5292720" y="1989000"/>
            <a:ext cx="3144960" cy="2409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2276640"/>
            <a:ext cx="741672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ricket: national 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ot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emier Le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o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ug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rsera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images"/>
          <p:cNvPicPr/>
          <p:nvPr/>
        </p:nvPicPr>
        <p:blipFill>
          <a:blip r:embed="rId1"/>
          <a:stretch/>
        </p:blipFill>
        <p:spPr>
          <a:xfrm>
            <a:off x="5983200" y="1989000"/>
            <a:ext cx="1886040" cy="2016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5" descr="epl_600"/>
          <p:cNvPicPr/>
          <p:nvPr/>
        </p:nvPicPr>
        <p:blipFill>
          <a:blip r:embed="rId2"/>
          <a:stretch/>
        </p:blipFill>
        <p:spPr>
          <a:xfrm>
            <a:off x="2987640" y="3933720"/>
            <a:ext cx="3816360" cy="190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20527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ot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thern Ire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Queen´s gu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own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bagpi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nothing spe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e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Highland 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black hum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h 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9" name="Grafik 4" descr="caber toss.jpg"/>
          <p:cNvPicPr/>
          <p:nvPr/>
        </p:nvPicPr>
        <p:blipFill>
          <a:blip r:embed="rId1"/>
          <a:stretch/>
        </p:blipFill>
        <p:spPr>
          <a:xfrm>
            <a:off x="3571920" y="4071960"/>
            <a:ext cx="109368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Grafik 5" descr="loch_ness.jpg"/>
          <p:cNvPicPr/>
          <p:nvPr/>
        </p:nvPicPr>
        <p:blipFill>
          <a:blip r:embed="rId2"/>
          <a:stretch/>
        </p:blipFill>
        <p:spPr>
          <a:xfrm>
            <a:off x="5357880" y="4214880"/>
            <a:ext cx="304776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Grafik 6" descr="Changing_of_the_Guard,_Buckingham_Palace.jpg"/>
          <p:cNvPicPr/>
          <p:nvPr/>
        </p:nvPicPr>
        <p:blipFill>
          <a:blip r:embed="rId3"/>
          <a:stretch/>
        </p:blipFill>
        <p:spPr>
          <a:xfrm>
            <a:off x="142920" y="4071960"/>
            <a:ext cx="2952720" cy="2214720"/>
          </a:xfrm>
          <a:prstGeom prst="rect">
            <a:avLst/>
          </a:prstGeom>
          <a:ln w="0">
            <a:noFill/>
          </a:ln>
        </p:spPr>
      </p:pic>
      <p:cxnSp>
        <p:nvCxnSpPr>
          <p:cNvPr id="122" name="Gekrümmte Verbindung 8"/>
          <p:cNvCxnSpPr/>
          <p:nvPr/>
        </p:nvCxnSpPr>
        <p:spPr>
          <a:xfrm flipV="1" rot="10800000">
            <a:off x="356400" y="2523600"/>
            <a:ext cx="826200" cy="154872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Gekrümmte Verbindung 16"/>
          <p:cNvCxnSpPr/>
          <p:nvPr/>
        </p:nvCxnSpPr>
        <p:spPr>
          <a:xfrm flipV="1" rot="10800000">
            <a:off x="4117320" y="2862000"/>
            <a:ext cx="951480" cy="1210320"/>
          </a:xfrm>
          <a:prstGeom prst="curvedConnector5">
            <a:avLst>
              <a:gd name="adj1" fmla="val 50908"/>
              <a:gd name="adj2" fmla="val 36328"/>
              <a:gd name="adj3" fmla="val 5090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Gekrümmte Verbindung 22"/>
          <p:cNvCxnSpPr/>
          <p:nvPr/>
        </p:nvCxnSpPr>
        <p:spPr>
          <a:xfrm flipV="1" rot="10800000">
            <a:off x="6881040" y="3198600"/>
            <a:ext cx="131040" cy="1016640"/>
          </a:xfrm>
          <a:prstGeom prst="curvedConnector5">
            <a:avLst>
              <a:gd name="adj1" fmla="val 63360"/>
              <a:gd name="adj2" fmla="val 29047"/>
              <a:gd name="adj3" fmla="val 633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feld 28"/>
          <p:cNvSpPr/>
          <p:nvPr/>
        </p:nvSpPr>
        <p:spPr>
          <a:xfrm>
            <a:off x="3571920" y="6357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ber t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Clot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feld 4"/>
          <p:cNvSpPr/>
          <p:nvPr/>
        </p:nvSpPr>
        <p:spPr>
          <a:xfrm>
            <a:off x="3203640" y="17859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otland: k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Grafik 5" descr="schottenrock.jpg"/>
          <p:cNvPicPr/>
          <p:nvPr/>
        </p:nvPicPr>
        <p:blipFill>
          <a:blip r:embed="rId1"/>
          <a:stretch/>
        </p:blipFill>
        <p:spPr>
          <a:xfrm>
            <a:off x="2071800" y="2357280"/>
            <a:ext cx="50004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280" y="3357360"/>
            <a:ext cx="5977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3399"/>
                </a:solidFill>
                <a:latin typeface="Tahoma"/>
              </a:rPr>
              <a:t>Thank you for listening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24:47Z</dcterms:created>
  <dc:creator>Nico</dc:creator>
  <dc:description/>
  <dc:language>en-US</dc:language>
  <cp:lastModifiedBy>Sonja</cp:lastModifiedBy>
  <dcterms:modified xsi:type="dcterms:W3CDTF">2010-03-07T16:55:06Z</dcterms:modified>
  <cp:revision>10</cp:revision>
  <dc:subject/>
  <dc:title>United Kingdom</dc:title>
</cp:coreProperties>
</file>